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31A-E86C-4D7E-BB08-90C41B80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475-EAD0-45A2-AA02-4B58B3B2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F5B-6137-4F6B-A4A3-0C897CB3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593-3644-4C83-8909-AD4152D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A4892-52B0-4FB8-AA35-E68132B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C8810-B640-45D8-9D06-C335A5C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06DC-AF25-4FCA-80B9-6DA43EFC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B5268-C1F9-45A0-97C0-0F02C8F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B9FD-8FD6-4E83-9589-400F78C9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8C816-ED5D-48FC-97A5-320988D2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9E0DB-0763-466E-AF3C-62BEBB5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F6D-6D44-4FC3-B2C9-0361A3C2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0FE5-8369-45FE-8A44-91AF105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93F2A-15D7-4274-B280-7972F9C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24F75-BD1E-4667-B571-B0CFE651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2AC96-2C6B-40B6-910F-B41DA8E8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98CD-6A75-4B58-9CD5-D87FA485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BED-5EE1-4F6B-BD40-E532B811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B99-8489-4F3B-BE83-68F4EAE7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460-CF55-4F80-9029-2113C05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55B-5D61-4DBF-88B7-75953108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B16-9780-41B7-A8C1-30BF33E8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550-D97F-424C-9C88-A8AC644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6CC-009D-4DE8-99EA-24B1EF9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57A-C298-44DC-A5EC-1E30494A9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E87-96B7-477A-BC29-0EED94636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By kaylie,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amber&amp; 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jordan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gross p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An example is before tax and expenses. also means 12 dozen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&lt;3}=144}7</a:t>
            </a:r>
            <a:r>
              <a:rPr b="0" lang="en-US" sz="3200" spc="-1" strike="noStrike">
                <a:solidFill>
                  <a:srgbClr val="00ccff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&lt;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estiim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inding a value that is close enough to the right answer,usally with some thought or calculation invo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Goudy Stout"/>
              </a:rPr>
              <a:t>Lik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oudy Stout"/>
              </a:rPr>
              <a:t>Terms whose variables(and their exponents such as the2 in x2)are the sa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Bodoni MT Black"/>
              </a:rPr>
              <a:t>                      </a:t>
            </a:r>
            <a:r>
              <a:rPr b="0" lang="en-US" sz="4400" spc="-1" strike="noStrike">
                <a:solidFill>
                  <a:srgbClr val="00ccff"/>
                </a:solidFill>
                <a:latin typeface="Bodoni MT Black"/>
              </a:rPr>
              <a:t>eqival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Having th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same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4400" spc="-1" strike="noStrike">
                <a:solidFill>
                  <a:srgbClr val="00ccff"/>
                </a:solidFill>
                <a:latin typeface="Gigi"/>
              </a:rPr>
              <a:t>vari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ig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Gigi"/>
              </a:rPr>
              <a:t>a symbol for a number we don’t know yet. it is</a:t>
            </a:r>
            <a:r>
              <a:rPr b="0" lang="en-US" sz="3200" spc="-1" strike="noStrike">
                <a:solidFill>
                  <a:srgbClr val="ffffff"/>
                </a:solidFill>
                <a:latin typeface="Gigi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Gigi"/>
              </a:rPr>
              <a:t>usally a letter like x o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Verti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In an up-down position. Up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Decim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Every digit in decimal number has a “position”, and the decimal helps us to know which position is whi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Ravie"/>
              </a:rPr>
              <a:t>Horizont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Ravie"/>
              </a:rPr>
              <a:t>Going side-to-side, like the horiz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8:50:46Z</dcterms:created>
  <dc:creator>kaylie.caswell</dc:creator>
  <dc:description/>
  <dc:language>en-US</dc:language>
  <cp:lastModifiedBy>kaylie.caswell</cp:lastModifiedBy>
  <dcterms:modified xsi:type="dcterms:W3CDTF">2010-11-23T19:40:11Z</dcterms:modified>
  <cp:revision>2</cp:revision>
  <dc:subject/>
  <dc:title>VOCABULARY</dc:title>
</cp:coreProperties>
</file>